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8C6-F048-480A-992A-69C410A3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9DE-58A4-4E84-BF83-3E7C1C04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E43-6BD6-4F1C-8B1D-0C873EF7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2102-7673-41E9-9171-1EA61476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765-58D0-4257-9330-036E2D7A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DF8-8171-44F5-8C85-B3900F74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BC8-6F57-4703-9BE5-71613D99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4E6-E76A-468C-8220-DEB425AB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A79-9B31-4D87-B4FE-2DC70DDC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0F6-E711-4AB1-826D-B54E00BB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BC5-DBC9-466D-8128-79FC99E7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FFC-8380-48DD-87D8-9CEAAF87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5E21-341A-48EA-8500-B5D4896F11E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3:26Z</dcterms:modified>
  <cp:revision>184</cp:revision>
  <dc:subject/>
  <dc:title>Models for Context-Free Languages</dc:title>
</cp:coreProperties>
</file>